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22E0-AE17-41B7-8747-3CCA7DA2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7F54-5453-472C-80CB-E2DAA53A8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4F9-BC56-48FB-9FD9-64C6DAC2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448-5ECF-48FD-BC39-6544B161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C02-9687-49C9-9E0D-AFFBE21C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503-F2C1-45A6-9E0B-424CAAC1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9B4-9C41-464E-A915-A2D740F4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AA6-61FF-40AE-9821-93E4B695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F26-F811-42E2-B642-AF83C1AB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AAA-5C2E-4E43-8818-39D07A5F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4AE-3AA5-4B62-AA36-78C53AFE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BBB-A072-4E20-B4E8-73AB6387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916-4438-4088-BA68-3D50FCF4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5F0-5EEF-4919-BAA4-9477FCF8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AE50-459C-4F98-B44D-3063C756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-25560" y="5335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yasia W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324480" y="0"/>
            <a:ext cx="18288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yasia W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yasia Wright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yasia Wrigh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yasia Wrgh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76176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4290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Nya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escuela es muy  buena. Nuestros clase es facil. Pero tenemos qu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ncontrar la historia de Mexico de estudios sociales y escribir un pap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Yo tengo un divertida dia. Como es tu nueva escue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Nya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! Como estas?  Tengo un mal dia. </a:t>
            </a:r>
            <a:r>
              <a:rPr b="0" lang="en-US" sz="7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Que estas haciendo? Donde esta? Tenemos que habla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05520"/>
            <a:ext cx="4419720" cy="7617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Nya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toy con mi familia y estamos en el parque. Podemos ir comer manana. Tienes 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ncontrame mi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3688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41148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! Adios mi bonita y joven y fuerte y intelligente amiga! Tenemos que Camin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52280" y="3657600"/>
            <a:ext cx="18288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 llama es Nya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right. Yo vive en Nuev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rk.Yo tengo quince anos. Yo soy gracios y muy fuerte. Si, Yo tengo uno hermano y una herman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24:23Z</dcterms:created>
  <dc:creator>FriscoISD</dc:creator>
  <dc:description/>
  <dc:language>en-US</dc:language>
  <cp:lastModifiedBy>NYCDOE</cp:lastModifiedBy>
  <dcterms:modified xsi:type="dcterms:W3CDTF">2012-12-07T14:08:10Z</dcterms:modified>
  <cp:revision>102</cp:revision>
  <dc:subject/>
  <dc:title>Profile</dc:title>
</cp:coreProperties>
</file>